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9E6-1B13-4B3D-8FF0-1D384C87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338-683A-437E-9693-FCA02FE2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C08-F607-4518-9087-07DDAA8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052-5188-4BA6-A6B0-EE7406EC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3FE-9A95-4679-B3E5-A7826C64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767-5D4A-40D3-9167-014984A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072-9191-43A9-A3EC-1A95819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990-E8F5-41B4-A71E-29247E8B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429-3615-4116-8937-D0809915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7AA-6DFA-46C1-ACBA-8BF9EE1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828-B4BA-497C-9577-B446B92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161-4263-43D7-BE38-DFC47582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FF8-A344-4B59-8406-D3ABD629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mechanicalmike.com/a4/LED_tails/images/left_LED_turn.JP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newportri.com/_resources/common/images/userfiles/resized/Bike_400x549.jpg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media.mwcradio.com/mimesis/2011-09/13/Road%20Construction%203_jpg_475x310_q85.jpg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2.bp.blogspot.com/_LWXfO_9CJtc/RxZfWezwbOI/AAAAAAAABIU/1be0tclldhc/s400/IMG_9864.JPG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ine Levels of Driving 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Danny Moh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: Getting in a Car Cr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66880" y="199548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518076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3.bp.blogspot.com/_ytmmefaB3q4/SQA9x95NCrI/AAAAAAAAATk/TGin65zjnA4/s400/ferrari+car+crash+3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: Other Cars Not Using Turning Sig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724280" cy="314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557604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echanicalmike.com/a4/LED_tails/images/left_LED_turn.JPG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: Just Missing an Orang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514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: Driving Behind Bi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682720" cy="368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1080" y="57142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portri.com/_resources/common/images/userfiles/resized/Bike_400x549.jpg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: Other Drivers Unknowingly Using High Beam Head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2076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5790600"/>
            <a:ext cx="563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4.ac-images.myspacecdn.com/images02/102/l_21faddfcb5b147cc9a7a3311b68af5ab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: Driving with Construction on Major R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502848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dia.mwcradio.com/mimesis/2011-09/13/Road%20Construction%203_jpg_475x310_q85.jpg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: Getting Cut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66880" y="2157480"/>
            <a:ext cx="3810240" cy="254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479988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2.bp.blogspot.com/_LWXfO_9CJtc/RxZfWezwbOI/AAAAAAAABIU/1be0tclldhc/s400/IMG_9864.JPG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: Getting a Speeding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19560" y="21765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200" y="472356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johnux.com/wp-content/uploads/2010/04/traffic-school.gi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: Running out of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90600" y="2000160"/>
            <a:ext cx="476280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14600" y="518076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blu.stb.s-msn.com/i/45/51DE276A6546A4D235AEC225BD0DB.j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1:17:10Z</dcterms:created>
  <dc:creator>Danny-pc</dc:creator>
  <dc:description/>
  <dc:language>en-US</dc:language>
  <cp:lastModifiedBy>Danny-pc</cp:lastModifiedBy>
  <dcterms:modified xsi:type="dcterms:W3CDTF">2011-09-14T01:49:23Z</dcterms:modified>
  <cp:revision>4</cp:revision>
  <dc:subject/>
  <dc:title>The Nine Levels of Driving Hell</dc:title>
</cp:coreProperties>
</file>